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55DC-8E02-4F01-AF00-A577059ED63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E22C-4146-41DE-89B1-48C17DCC3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A3CC-08FF-44E6-A0FB-8FEFAF0D6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8578-3EC3-4A63-8A97-53E82C312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A265-636B-4EAC-AC6B-4F85DFCA7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D2EE-BCA9-4C6F-A51B-BAF744C02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7D1B-B7EA-4234-84A1-697D62931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7EF0-9CD6-48F3-A2EC-DC7DDDA0D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4727-DBD9-4B7E-8904-CCA7642CD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015D-5D8E-4ECE-BB88-394AD155A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F96F-51E3-4503-BD19-24C11EB4A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DA23-C4D4-4245-A84D-BCDB0DD47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1A12-648A-4644-9ACC-B1511D7F0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EBB5-4D79-4C55-B9C0-F2718400D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0FC1-DF2C-4170-97F3-72F408BD3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52F5-DF15-41FD-8D43-8854DB5D3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6959-31D5-4002-AC3D-692205187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D907-133B-400B-8AC8-A326A6E5F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0A91-EBBD-4687-ACF6-6B164E364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076D-E508-459F-8C82-23BFBCD83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45D3-07B4-4946-9367-AB147161F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0E17-6767-4036-BEA0-F6391C703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3348-8566-4BAB-A6D1-CDF2E39F8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A4D2-7BCD-411B-8009-8748A082F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4D98-5DD6-4B1A-90A5-BB94AF6F1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CB14-773F-4E16-8A1C-C0C60ABC9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D94F-4C20-452C-9A6A-128285176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D4FF-37E9-43FA-A338-8E22C1049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D6C9-1280-4829-9DB9-DA1ADB99D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478DB-DDC8-4DD3-92F5-39E8BE637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A69C0-6423-492D-97CA-B3C476228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6F8621-2A6B-4C2F-B180-63C8BF9522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352324-DEE5-4540-852A-65A0AEDE47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A45A06-9279-4D99-B1EF-E76CF5616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861733-48ED-4B07-A987-E8DDC36F7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20D62B-AC12-40B5-B851-B3DD8835D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CE473-2027-4F37-8C30-47EB94FA8D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38C403-CA1E-48E0-B9F0-F75D1DAD5E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70E4F2-6CFC-4CF3-8F6A-E7E31DDF95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1A4E73-770F-405C-95C6-63ACAADB2F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5DAF0A-ED6F-485F-AE2A-E51EF80D06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667F0-55B1-4426-8859-24EF69622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ADDF47-52AC-4D57-81B0-FCD6C5A315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30E110-0FC4-4533-BF52-887F87D60E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9B76E2-C8CA-4F90-9708-BE44F81A24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A0159C-8464-4A57-AA88-0CC82F261E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1D6CFE-ACFF-46EE-9FE7-8EAF50BCA7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17D6FD-AA2D-4331-BED2-C1F5A75869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B06B1D-E74A-44CA-AA1C-721D40BA9F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14D3EA-10FD-4750-817B-B865DB3A88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EFECAF-D3AD-4859-BAFC-0ADB4E7100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93987E-5EF1-42BA-82B8-BD58BD2C09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6D76D-C7B1-48BC-A3A2-768B9302F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18A15A-8A89-44CD-83F1-9D524744EB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D70060-D723-4BE0-9268-ECC05B61DC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94699B-D7D8-4832-93FB-17F8E1E13B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168459-A983-46F1-A025-062BE81608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C9EEE8-B74D-4A67-B87C-1EEF8B3FF8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234669-5B07-463B-937D-534F6A1EE4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ABD9AF-D5DA-4A97-BB77-B20FAD915D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DFA1CD-E50C-454A-B2C0-306F1E00FC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4C7119-F1BE-4873-B0EE-840A6B3193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DD2EFC-FF14-44DA-905F-AC398A5E70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EE339-8B0B-4024-8E80-66C4BEF16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95252E-D91C-41CC-B785-E8728AEA3B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451BBC4-399A-4756-8B68-36184F8670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62051C-66BC-4B73-92D6-0694222179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53D036-1FC9-444A-BA57-C0BA986734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2A3688-3B07-47CB-8297-8072CB199F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377D62-DDB2-481C-8827-AEA6078139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471DEB-050A-4019-8F87-AA42700632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85556A-FCAF-42EF-B78C-D3EC8BAE41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BAB6ED-C121-4E88-A09A-550977C759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318CF8-990B-4C49-BD5E-08CCA9A79A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391D8-5B9C-4949-9F85-378133A67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126E6B-8CD2-4352-9FB3-3DFCD49CC8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96E133-A8E0-4005-BEDB-1A212F6495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34CCE2-75A8-4798-AAF5-E28BEF0BA4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9B1FE3-A524-4B67-970A-F0C3968BFC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BFB6282-7442-4C2E-9A5C-9589ECC4E5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10F793F-37E3-4239-83A3-7924BC3E947F}"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B22F960-BDD2-466C-A73C-44A2605D46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5AE7941-1F38-4213-8CF6-C2CC2CA303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15B65CC-7B15-4D6A-BB74-9EA1459C61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1BC242F-A15B-450F-A298-A005140C3A5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690B2-55B8-46AE-8A86-8DF39E0D2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29ED05C9-E850-4196-BB24-52E13D94577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566B034-FA39-4431-BA0A-E09D17AE4B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EF09475-7757-49A4-91CF-C77C392265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BA76BBF-758F-40D8-8054-0E30217C74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6A5DF346-8909-43AC-BADE-8573E4D42F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C3C26C1D-A19A-4779-A0A0-9F5C775152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82C54B4B-B8A3-4476-B8A7-AD02AA8D4729}"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0463E-9263-4C99-B271-45AE6A659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35A32-E371-40B4-B876-AA9717918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3E726-5092-46E4-BE09-D431CD600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E6ED8-72DA-40B7-8BCD-7F5C2FDB5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B24E8-6E59-435E-B89C-6B0B84720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0651B-D6A0-4B12-B8E3-2BA2FCE71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20695-BD65-4E50-A628-148736299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FD5A0-7080-48D7-93E6-74025AC24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B91C2-9677-4F6A-BA29-619595E62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184A6-66BC-4097-AD7C-301D470A3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BF9A8E-FF40-4F9E-9D42-C7F323AF10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1683F-4C45-444B-B70C-9208A95F77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68A94-1DA7-4AA0-A4C7-C5AD09093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37171-1473-448E-AF90-A9F373347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5632A-9D32-411A-BD8F-E34EA9578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A169F-E94A-4C2D-A87A-F263226E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A110CA-CF6E-4065-BCDE-22D9AA6D66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54576-D410-4B4E-A78B-4C0FEBEF2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CDE67-4CF6-46CB-91E0-C750DBA37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B7EF9-1833-4C13-9755-1E8AFAF13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023DE-594D-48A9-8F40-FB820D6A4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8EA395-40BD-45BD-8C9D-55E4743D5A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F516FA-0FA8-489A-98CB-E729246B94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2227D8-78C1-4ABA-A323-9A4CABD5F0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85BC51-3719-45B6-A975-24F9594560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79662-42B4-4607-BCFE-4E95195F97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13157-88E1-40F7-9463-45347FC56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16DC8-BE1D-4D25-811F-1634D8974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B49D87-75FE-465B-A504-020E548B3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A6A89F-1FE8-456F-8AFC-23A85117D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33FEA-7318-4F22-9A10-8F9AAFA10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83CDA-34FC-4401-9834-ADCC7707C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9B0E5-8EB2-4417-A41C-9DC51AE20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3F02FA-CF5D-4186-BA17-7BC73F4E5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807D79-7D86-40F9-AA7E-AA7CE4C025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59BE92-DA68-426D-AD16-EC7D08EA02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B052C1-F6EC-47ED-8EE1-50C84519F4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D55D9-86E4-4AB7-891F-21CB867F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003CCF-D062-4AB9-8BD8-6451757CC5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FA3676-45F1-4A9A-8942-05E16877C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2EADA2-1AE4-4A71-BA7D-F23C26979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59D8C-F3FB-4890-9D0A-E6ABCD3B6B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7AE6E0-6C9E-42E1-B1B1-A011169320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C0A0CD-6378-4624-8BCC-F94B6E2BF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282CE-C26D-41CB-BEF3-FEC0C835D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45CD1-F09F-4C6A-A7A8-4E3D3F0CA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5A6FC-8AFE-4275-82FB-81CB84BE53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004BF9-2703-487C-8C86-1E21D97B47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1B074-6D4F-4359-B796-B536870F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26EB61-C8E6-41BB-A37B-735615326D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C94D7A-703C-40C2-BA98-691412CB09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08E9CE-8C8C-43CE-BDB0-8A3C93057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B2445F-801E-4653-81A0-9F6B5ECB25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17D5C0-3600-48F2-BBED-1B62D94A84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48E535-917B-4942-A631-CA88FA37F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D9788-2B62-4B5C-9555-B78E338DF8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02214-01CC-4C82-A7D6-18CB88A2F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23AA7-BA08-4D69-9745-98E9EA55E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A3602-11A0-4E89-8DB6-E0B76AEBF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447C-D08C-435E-A2B2-79E21467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0A9547-F5A0-4E94-B48F-D77F176447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4C5DD2-6B13-4C7B-9DDB-C7AAA4CC27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8D50A1-894A-42FC-9A51-E70700FC91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00E1A9-3A91-4AFE-9F05-14A9EA90F6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69B969-6752-451D-8E32-7EA1F713C5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AA213F-40EA-4A9A-935C-DBD214D26A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5247D8-0F11-45FF-819A-BA94ADD3D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9FB3AE-5E8F-4316-A2AB-364F6DF42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3C6E61-07C8-4DA1-889C-3FD2482A8E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3D186-CDE9-4232-9D61-3E2D045FF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696FE-4A71-4BA4-8CC9-770EB98DB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C1E2C-93BC-41A7-A4BE-38F1B413E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45D41-6194-46D4-A109-7DFCE1C447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1C06CD-5CCB-40E9-BD09-B760372A1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F8A9D8-6BCC-442D-BEAD-91739CCBBB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7D0266-5BF4-4FA1-9BBB-AB7E65729C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19E685-E389-41ED-A864-10E90FCCB8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5262EE-F9D5-4113-8E9F-EC2AE6777C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A4459F-CA00-4914-ADA9-8E4C6A6F33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D87C3D-CF02-4021-9EFB-4DC7704E29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EF6381-1101-42E9-A167-6D5DF64007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B5F56-5C23-4241-9D09-CAEBB454A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B374A5-34A4-4A35-B345-2D19EDF568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695D8-66BD-439E-9777-9F9322FA16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8EBC3-2505-49A3-A75E-06A253F7E0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5AD77F-9B4D-42DC-93FA-9B59BEE359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7A4561-908E-41F7-89CD-F01FE37BEE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71D521-A031-46BE-8FE5-C39F9621C1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24E49D-F4F7-4770-AD96-C3FFF76AA0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08BBDF-4A21-4AE3-A5FA-33B3A03F83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46A61C-C5FE-4C6F-AB90-421CB73D01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6F3CF0-F80C-4B0A-B5CB-C7D747ACEE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3E8E-D021-4B19-AD4F-185B18F183D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C4C7-7EFA-47E5-829E-6FD803F8C25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DC7C-46B6-4B6D-B690-6EF33914949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7806-981E-4353-88DB-2DBAD2BFA72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B618-FF6B-4606-AD2D-0D30BDFBE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554E-5C34-4077-B921-7574C3EEF00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5638-6FCE-4F3C-AEE3-20B86D08CCC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C4EC-6FEC-4D6A-849D-CF00F66B671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4727-2F8E-4B3A-940A-CE26CC43CC0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D69A-2EF8-4118-835B-9CF330A726A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4771-7F00-4ABC-8334-A1B399570BA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EB68-55EA-4571-B690-1E75A89896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490B-C564-4F18-A117-D043036622C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324000" y="1128600"/>
            <a:ext cx="8640720" cy="403704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724040"/>
            <a:ext cx="8353440" cy="372888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24000" y="888480"/>
            <a:ext cx="8424720" cy="54003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250560" y="1108080"/>
            <a:ext cx="8497800" cy="49608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395280" y="1071360"/>
            <a:ext cx="8353440" cy="50346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0" y="909360"/>
            <a:ext cx="8820000" cy="497232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250560" y="1099800"/>
            <a:ext cx="8893080" cy="459108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539280" y="2065320"/>
            <a:ext cx="820908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250920" y="1233360"/>
            <a:ext cx="8642160" cy="471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920" y="1836360"/>
            <a:ext cx="864216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53928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250560" y="874440"/>
            <a:ext cx="8569080" cy="4972320"/>
          </a:xfrm>
          <a:prstGeom prst="rect">
            <a:avLst/>
          </a:prstGeom>
          <a:noFill/>
          <a:ln w="0">
            <a:noFill/>
          </a:ln>
        </p:spPr>
        <p:txBody>
          <a:bodyPr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250560" y="1271160"/>
            <a:ext cx="8569080" cy="4591080"/>
          </a:xfrm>
          <a:prstGeom prst="rect">
            <a:avLst/>
          </a:prstGeom>
          <a:noFill/>
          <a:ln w="0">
            <a:noFill/>
          </a:ln>
        </p:spPr>
        <p:txBody>
          <a:bodyPr tIns="253800" bIns="2556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0"/>
            <a:ext cx="9144000" cy="6551640"/>
            <a:chOff x="0" y="0"/>
            <a:chExt cx="9144000" cy="6551640"/>
          </a:xfrm>
        </p:grpSpPr>
        <p:grpSp>
          <p:nvGrpSpPr>
            <p:cNvPr id="602" name="Ομάδα 1"/>
            <p:cNvGrpSpPr/>
            <p:nvPr/>
          </p:nvGrpSpPr>
          <p:grpSpPr>
            <a:xfrm>
              <a:off x="0" y="0"/>
              <a:ext cx="9144000" cy="6551640"/>
              <a:chOff x="0" y="0"/>
              <a:chExt cx="9144000" cy="6551640"/>
            </a:xfrm>
          </p:grpSpPr>
          <p:sp>
            <p:nvSpPr>
              <p:cNvPr id="60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179280" y="761400"/>
            <a:ext cx="8785440" cy="533808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0"/>
            <a:ext cx="9144000" cy="6551640"/>
            <a:chOff x="0" y="0"/>
            <a:chExt cx="9144000" cy="6551640"/>
          </a:xfrm>
        </p:grpSpPr>
        <p:grpSp>
          <p:nvGrpSpPr>
            <p:cNvPr id="611" name="Ομάδα 1"/>
            <p:cNvGrpSpPr/>
            <p:nvPr/>
          </p:nvGrpSpPr>
          <p:grpSpPr>
            <a:xfrm>
              <a:off x="0" y="0"/>
              <a:ext cx="9144000" cy="6551640"/>
              <a:chOff x="0" y="0"/>
              <a:chExt cx="9144000" cy="6551640"/>
            </a:xfrm>
          </p:grpSpPr>
          <p:sp>
            <p:nvSpPr>
              <p:cNvPr id="612"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179280" y="1858680"/>
            <a:ext cx="8640720" cy="31431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9:04:40Z</dcterms:modified>
  <cp:revision>155</cp:revision>
  <dc:subject/>
  <dc:title>Παρουσίαση του PowerPoint</dc:title>
</cp:coreProperties>
</file>